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3F84-948E-4E4D-BF9F-142D34A8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2DB9-4B11-4802-B4AC-8D85E79B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BBDF-9A3D-4A8B-B93C-B842592F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50B9-E97D-4050-9785-4BFA851A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36C1-AB82-4018-824E-BFA8A9E3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677D-D1E1-4845-B681-8BFB86C4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8F40-DA97-45F1-9B52-3B091C2F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8B0E-10BE-4555-8F3E-D9116B51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C1F8-E8A1-4583-BB05-55F18A6A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200D-C10F-4FA2-881E-800791D3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DFBE-6FE8-4D88-97F5-3A0FEB71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A125-2EBC-40F2-AF09-61EFA747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96DF-B358-4D54-A91F-A7A1212B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FE26-CE8F-4CA6-AA58-BB467331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94E2-F98D-4BBC-B451-3F2CD7FE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211D-18BB-4F55-94E3-C3B24F5A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B480-BA71-4193-98F1-35A7C5A6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6862-1334-4F81-9240-BE55B0BF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DED31-CE2C-4112-9F8B-79BA6733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5F23-8B59-43B7-B0D7-8E4625C3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DB07F-85AF-4093-9383-A477B9F9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D94F-685B-4B45-A14E-45CA3B0D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FC9A-831D-48EF-AA95-18576550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1D4E-5969-4ABF-8B00-DC755B23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1CF9-59AC-42D2-A122-0BD078F669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9C78-6017-471D-845E-8B251CA1157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8-04-21T20:53:59Z</dcterms:modified>
  <cp:revision>1</cp:revision>
  <dc:subject/>
  <dc:title>Guess the Covered Word</dc:title>
</cp:coreProperties>
</file>